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.wmf" ContentType="image/x-wmf"/>
  <Override PartName="/ppt/media/image2.png" ContentType="image/png"/>
  <Override PartName="/ppt/media/image1.png" ContentType="image/png"/>
  <Override PartName="/ppt/media/image14.png" ContentType="image/png"/>
  <Override PartName="/ppt/media/image27.wmf" ContentType="image/x-wmf"/>
  <Override PartName="/ppt/media/image16.png" ContentType="image/png"/>
  <Override PartName="/ppt/media/image26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A1F1-49F4-42AA-AD01-9FA2BD0E8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y PMF probability mass function – if you think of probability as a physical weight – and the x axis as the position, then computing E[x] is like computing where the center of mass will be on the x 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E401-F19F-4D55-9F58-8CBD443B2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CAAF-E0FB-46CD-B48D-3CD63FDC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422C-588D-4664-9A03-DA520EFA4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07B6-4D9E-4D42-A190-8E9224BE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249B-1370-458C-B1EA-95ECB9D7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950E-1A87-4B46-A7BC-0BD4BC08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745E-6781-406E-BE6A-E2CFE3D1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3F6A-B91D-4404-80CA-E7039C6B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D53F-08A3-4F5B-BF7C-AF30407C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B334-C341-4AB4-B821-3C5648B1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58E2-D692-489B-9E31-F373416E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F1E5-A024-40A3-982E-97CE1687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8646-818A-40DD-8777-4A86075DD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png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Random Variable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92280" y="460440"/>
            <a:ext cx="46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inomial Random Variable (co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File:Binomial distribution pmf.svg"/>
          <p:cNvPicPr/>
          <p:nvPr/>
        </p:nvPicPr>
        <p:blipFill>
          <a:blip r:embed="rId1"/>
          <a:stretch/>
        </p:blipFill>
        <p:spPr>
          <a:xfrm>
            <a:off x="4572000" y="1066680"/>
            <a:ext cx="4133880" cy="27529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File:Binomial distribution cdf.svg"/>
          <p:cNvPicPr/>
          <p:nvPr/>
        </p:nvPicPr>
        <p:blipFill>
          <a:blip r:embed="rId2"/>
          <a:stretch/>
        </p:blipFill>
        <p:spPr>
          <a:xfrm>
            <a:off x="4495680" y="3924360"/>
            <a:ext cx="4419720" cy="3314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018200" y="3581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18200" y="6643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9960" y="130968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M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8640" y="397656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D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68040" y="2438280"/>
            <a:ext cx="238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(X) =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(X) = np(1-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F(x;n,p) = \Pr(X \le x) = \sum_{i=0}^{\lfloor x \rfloor} {n\choose i}p^i(1-p)^{n-i}."/>
          <p:cNvPicPr/>
          <p:nvPr/>
        </p:nvPicPr>
        <p:blipFill>
          <a:blip r:embed="rId3"/>
          <a:stretch/>
        </p:blipFill>
        <p:spPr>
          <a:xfrm>
            <a:off x="438120" y="5181480"/>
            <a:ext cx="3753000" cy="5144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 f(k;n,p) = \Pr(K = k) = {n\choose k}p^k(1-p)^{n-k}"/>
          <p:cNvPicPr/>
          <p:nvPr/>
        </p:nvPicPr>
        <p:blipFill>
          <a:blip r:embed="rId4"/>
          <a:stretch/>
        </p:blipFill>
        <p:spPr>
          <a:xfrm>
            <a:off x="457200" y="1752480"/>
            <a:ext cx="345744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90480" y="460440"/>
            <a:ext cx="40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eometric Random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1066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osses: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ability of heads: 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number of tosses until you get 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451240" y="5943600"/>
            <a:ext cx="5321160" cy="4953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540160" y="44355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540160" y="329220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43000" y="2987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18600" y="422100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139120" y="3673440"/>
            <a:ext cx="9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3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882160" y="4511520"/>
            <a:ext cx="912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1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308480" y="44355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308480" y="329220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611320" y="2987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686920" y="422100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32920" y="3673440"/>
            <a:ext cx="1109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3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55880" y="4511520"/>
            <a:ext cx="1178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|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1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43080" y="2682720"/>
            <a:ext cx="1283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P(T</a:t>
            </a:r>
            <a:r>
              <a:rPr b="0" lang="en-US" sz="12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H</a:t>
            </a:r>
            <a:r>
              <a:rPr b="0" lang="en-US" sz="1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) = 12/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17520" y="2666880"/>
            <a:ext cx="1099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P(H</a:t>
            </a:r>
            <a:r>
              <a:rPr b="0" lang="en-US" sz="12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) = 48/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11720" y="44355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6111720" y="3292200"/>
            <a:ext cx="12956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414920" y="2987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490520" y="422100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579640" y="3673440"/>
            <a:ext cx="1275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3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465600" y="4511520"/>
            <a:ext cx="1344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|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1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51720" y="2682720"/>
            <a:ext cx="1382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P(T</a:t>
            </a:r>
            <a:r>
              <a:rPr b="0" lang="en-US" sz="12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T</a:t>
            </a:r>
            <a:r>
              <a:rPr b="0" lang="en-US" sz="1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H</a:t>
            </a:r>
            <a:r>
              <a:rPr b="0" lang="en-US" sz="1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) = 3/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23320" y="2475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X=3)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5440" y="4876920"/>
            <a:ext cx="269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ized Experi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osses: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ability of heads: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X = k)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60800" y="460440"/>
            <a:ext cx="48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eometric Random Variable (co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715000" y="685800"/>
            <a:ext cx="6629400" cy="4038480"/>
            <a:chOff x="5715000" y="685800"/>
            <a:chExt cx="6629400" cy="4038480"/>
          </a:xfrm>
        </p:grpSpPr>
        <p:pic>
          <p:nvPicPr>
            <p:cNvPr id="268" name="" descr="File:Geometric pmf.svg"/>
            <p:cNvPicPr/>
            <p:nvPr/>
          </p:nvPicPr>
          <p:blipFill>
            <a:blip r:embed="rId1"/>
            <a:stretch/>
          </p:blipFill>
          <p:spPr>
            <a:xfrm>
              <a:off x="5715000" y="1218960"/>
              <a:ext cx="642924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8915400" y="685800"/>
              <a:ext cx="3429000" cy="403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89960" y="130968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M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8640" y="397656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D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 f(k;n,p) = \Pr(K = k) = {n\choose k}p^k(1-p)^{n-k}"/>
          <p:cNvPicPr/>
          <p:nvPr/>
        </p:nvPicPr>
        <p:blipFill>
          <a:blip r:embed="rId2"/>
          <a:stretch/>
        </p:blipFill>
        <p:spPr>
          <a:xfrm>
            <a:off x="457200" y="1752480"/>
            <a:ext cx="3457440" cy="4860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F(x;n,p) = \Pr(X \le x) = \sum_{i=0}^{\lfloor x \rfloor} {n\choose i}p^i(1-p)^{n-i}."/>
          <p:cNvPicPr/>
          <p:nvPr/>
        </p:nvPicPr>
        <p:blipFill>
          <a:blip r:embed="rId3"/>
          <a:stretch/>
        </p:blipFill>
        <p:spPr>
          <a:xfrm>
            <a:off x="533520" y="4572000"/>
            <a:ext cx="3752640" cy="5144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523880" y="4572000"/>
            <a:ext cx="3429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71600" y="1676520"/>
            <a:ext cx="3429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(1 - p)^{k-1}\,p\!"/>
          <p:cNvPicPr/>
          <p:nvPr/>
        </p:nvPicPr>
        <p:blipFill>
          <a:blip r:embed="rId4"/>
          <a:stretch/>
        </p:blipFill>
        <p:spPr>
          <a:xfrm>
            <a:off x="1523880" y="1905120"/>
            <a:ext cx="933480" cy="2188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1-(1 - p)^k\!"/>
          <p:cNvPicPr/>
          <p:nvPr/>
        </p:nvPicPr>
        <p:blipFill>
          <a:blip r:embed="rId5"/>
          <a:stretch/>
        </p:blipFill>
        <p:spPr>
          <a:xfrm>
            <a:off x="1676520" y="4724280"/>
            <a:ext cx="961920" cy="2192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Geometric cdf.svg"/>
          <p:cNvPicPr/>
          <p:nvPr/>
        </p:nvPicPr>
        <p:blipFill>
          <a:blip r:embed="rId6"/>
          <a:stretch/>
        </p:blipFill>
        <p:spPr>
          <a:xfrm>
            <a:off x="5791320" y="4257720"/>
            <a:ext cx="6095880" cy="2600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8839080" y="4267080"/>
            <a:ext cx="3429000" cy="281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\frac{1-p}{p^2}\!"/>
          <p:cNvPicPr/>
          <p:nvPr/>
        </p:nvPicPr>
        <p:blipFill>
          <a:blip r:embed="rId7"/>
          <a:stretch/>
        </p:blipFill>
        <p:spPr>
          <a:xfrm>
            <a:off x="2400480" y="3200400"/>
            <a:ext cx="419040" cy="4287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\frac{1}{p}\!"/>
          <p:cNvPicPr/>
          <p:nvPr/>
        </p:nvPicPr>
        <p:blipFill>
          <a:blip r:embed="rId8"/>
          <a:stretch/>
        </p:blipFill>
        <p:spPr>
          <a:xfrm>
            <a:off x="1600200" y="2514600"/>
            <a:ext cx="104760" cy="4287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762840" y="251460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(X)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64280" y="3200400"/>
            <a:ext cx="16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(X)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10640" cy="26449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1523880" y="4038480"/>
            <a:ext cx="6566040" cy="5241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1371600" y="4719600"/>
            <a:ext cx="365760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381880" cy="61563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04920" y="5562720"/>
            <a:ext cx="8458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64040" y="460440"/>
            <a:ext cx="50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dependence of Random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666720" y="1371600"/>
            <a:ext cx="7105680" cy="8668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609480" y="3871800"/>
            <a:ext cx="5626080" cy="4842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495360" y="4303800"/>
            <a:ext cx="7810560" cy="6490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609480" y="5257800"/>
            <a:ext cx="8153640" cy="6444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609480" y="3040200"/>
            <a:ext cx="784872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459360" y="46044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ome thou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14880" y="1143000"/>
            <a:ext cx="599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es it mean for 2 experiments to be independen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60160" y="1995480"/>
            <a:ext cx="70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you derive the properties of binomial random variables 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noulli random variabl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57920" y="460440"/>
            <a:ext cx="599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ther top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- PMFs of more than one random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- conditional P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3209760" cy="3657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38088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andom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attribute of an experimental out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724280" y="2286000"/>
            <a:ext cx="787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5335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obability Mass Function (PM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5800" y="1523880"/>
          <a:ext cx="518004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518004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352680" y="2514600"/>
            <a:ext cx="3210120" cy="3657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380880"/>
            <a:ext cx="8229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unctions of Random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4*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H – E(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          1 if H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if H &gt;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58000" y="2666880"/>
            <a:ext cx="787320" cy="3429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28800" y="2286000"/>
            <a:ext cx="533520" cy="609480"/>
          </a:xfrm>
          <a:custGeom>
            <a:avLst/>
            <a:gdLst>
              <a:gd name="textAreaLeft" fmla="*/ 340920 w 533520"/>
              <a:gd name="textAreaRight" fmla="*/ 533880 w 5335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533520"/>
            <a:ext cx="8229600" cy="20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pec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ed average of all possible outc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[x]  = ∑ [ x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057400"/>
            <a:ext cx="8229600" cy="44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ar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the spread of the PMF around the expected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(X – E(X)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E(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71600" y="4114800"/>
            <a:ext cx="3809880" cy="657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143680" y="4049640"/>
            <a:ext cx="3848040" cy="8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60640" y="1447920"/>
            <a:ext cx="3210120" cy="3657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380880"/>
            <a:ext cx="8229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unctions of Random Variables (co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Y =         1 if h &lt;=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0 if h &gt;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(H) = 1.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(Y)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365960" y="1600200"/>
            <a:ext cx="787320" cy="3429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47920" y="1371600"/>
            <a:ext cx="533160" cy="609480"/>
          </a:xfrm>
          <a:custGeom>
            <a:avLst/>
            <a:gdLst>
              <a:gd name="textAreaLeft" fmla="*/ 340560 w 533160"/>
              <a:gd name="textAreaRight" fmla="*/ 533520 w 5331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799160"/>
            <a:ext cx="701064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eneral, for any var. 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func. g(X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 = g(X): E(Y) = ∑ [ g(X)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400800" y="685800"/>
            <a:ext cx="914400" cy="911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429240" y="700200"/>
            <a:ext cx="885960" cy="823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93720" y="460440"/>
            <a:ext cx="38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ernoulli Random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17280" y="106668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:  Toss coin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26668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1828800"/>
            <a:ext cx="1600200" cy="12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2133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2666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62160" y="300816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92760" y="30481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(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980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39760" y="2286000"/>
            <a:ext cx="32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40080" y="1995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8200" y="3809880"/>
            <a:ext cx="55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experiments with 2 possible outcomes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s a person healthy or sic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o you like a song on pandora.c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will event A occur or no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38840" y="1941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48480" y="1919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39200" y="186516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6296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33560" y="41148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X=1) =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33560" y="451008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X=0) = 1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92640" y="460440"/>
            <a:ext cx="46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ernoulli Random Variable (co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705720" y="838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2666880"/>
            <a:ext cx="1568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6440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01880" y="300816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37240" y="30481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(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5042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7280" y="106668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:  Toss coin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43800" y="1371600"/>
            <a:ext cx="22860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228600" cy="3808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758360" y="79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74320" y="18432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8560" y="184320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M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56480" y="277956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(X)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35240" y="35193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(X)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11840" y="27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15560" y="35193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1-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4960" y="42051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D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705720" y="3976560"/>
            <a:ext cx="144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5805360"/>
            <a:ext cx="1568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64400" y="56530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01880" y="614664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37240" y="61866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(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504280" y="5653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43800" y="4114800"/>
            <a:ext cx="228600" cy="1690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05720" y="5424480"/>
            <a:ext cx="228600" cy="3808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758360" y="3936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74320" y="49816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066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93360" y="460440"/>
            <a:ext cx="37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inomial Random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105520" y="685800"/>
            <a:ext cx="914400" cy="911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133960" y="700200"/>
            <a:ext cx="885960" cy="823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7315200" y="685800"/>
            <a:ext cx="914400" cy="911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7343640" y="700200"/>
            <a:ext cx="885960" cy="823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0200" y="1019160"/>
            <a:ext cx="273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osses: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ability of heads: 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number of 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191120" y="3440160"/>
            <a:ext cx="6094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603108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934320" y="2296800"/>
            <a:ext cx="27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32400" y="23734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32760" y="21556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40320" y="28954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40680" y="26780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240320" y="34290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40680" y="32115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240320" y="39625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40680" y="3745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40320" y="45068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40680" y="42894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240320" y="51055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240680" y="4888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40320" y="56498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240680" y="54324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240320" y="62485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240680" y="6031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934320" y="244944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31200" y="23083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934320" y="2819160"/>
            <a:ext cx="27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34320" y="297180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30840" y="28306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934320" y="3363840"/>
            <a:ext cx="272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34320" y="3516480"/>
            <a:ext cx="304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31200" y="3375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934320" y="3897000"/>
            <a:ext cx="27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404964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30840" y="39085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934320" y="4419360"/>
            <a:ext cx="27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457200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31200" y="44308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934320" y="5028840"/>
            <a:ext cx="27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18148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30840" y="5040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934320" y="5573520"/>
            <a:ext cx="27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572616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631200" y="55846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934320" y="6171840"/>
            <a:ext cx="27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34320" y="632448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30840" y="6183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6248520" y="57258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37120" y="58784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488808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248520" y="45828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37480" y="47354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80120" y="3821040"/>
            <a:ext cx="372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180120" y="351648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868720" y="36687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7543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248520" y="2449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37480" y="2602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181480" y="28303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81480" y="336384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02400" y="32115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5181480" y="496404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549756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02040" y="53452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91120" y="4430880"/>
            <a:ext cx="60948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83120" y="2133720"/>
            <a:ext cx="69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HH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86000" y="236232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H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98600" y="266688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H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98240" y="289548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H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98600" y="320040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H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698240" y="342900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98240" y="373392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97880" y="3962520"/>
            <a:ext cx="63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86000" y="426708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H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88880" y="449568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701480" y="487692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700760" y="5105520"/>
            <a:ext cx="63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01480" y="541008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TH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700760" y="5638680"/>
            <a:ext cx="63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T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700760" y="6019920"/>
            <a:ext cx="63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T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700400" y="6248520"/>
            <a:ext cx="61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T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3640" y="476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7600" y="4038480"/>
            <a:ext cx="269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ized Experi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osses: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ability of heads: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46120" y="542592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X = k)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9400" y="243828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X=2)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9400" y="268128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X=3)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75360" y="3519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68880" y="50436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11880" y="2666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411880" y="36576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18360" y="48006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94320" y="5805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6172200" y="685800"/>
            <a:ext cx="914400" cy="911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6200640" y="700200"/>
            <a:ext cx="885960" cy="823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7"/>
          <a:stretch/>
        </p:blipFill>
        <p:spPr>
          <a:xfrm>
            <a:off x="8458200" y="685800"/>
            <a:ext cx="914400" cy="9111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8"/>
          <a:stretch/>
        </p:blipFill>
        <p:spPr>
          <a:xfrm>
            <a:off x="8486640" y="700200"/>
            <a:ext cx="885960" cy="8236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620000" y="586908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 C k)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-p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-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41520" y="2438280"/>
            <a:ext cx="336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x (¾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¼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7/128 = 0.2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36480" y="2681280"/>
            <a:ext cx="34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x (¾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¼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08/256 = 0.4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56440" y="6248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65920" y="6338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80120" y="22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65920" y="1981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458200" y="2971800"/>
            <a:ext cx="152280" cy="152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458200" y="3809880"/>
            <a:ext cx="152280" cy="152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458200" y="4952880"/>
            <a:ext cx="152280" cy="152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458200" y="4572000"/>
            <a:ext cx="152280" cy="152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458200" y="5486400"/>
            <a:ext cx="152280" cy="152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458200" y="3505320"/>
            <a:ext cx="152280" cy="152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22:18:49Z</dcterms:created>
  <dc:creator>Ben</dc:creator>
  <dc:description/>
  <dc:language>en-US</dc:language>
  <cp:lastModifiedBy>Ben</cp:lastModifiedBy>
  <dcterms:modified xsi:type="dcterms:W3CDTF">2010-12-01T03:25:42Z</dcterms:modified>
  <cp:revision>150</cp:revision>
  <dc:subject/>
  <dc:title>Discrete Random Variables 2</dc:title>
</cp:coreProperties>
</file>